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8181-B1E2-4299-8F37-935245552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should type their name after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6892-BD8D-4BF3-B2FF-2E1D51C6D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drag dinosaurs into the boxes to complete equation. Students then write the number sen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3AFA-3AEA-4495-8539-74039191D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drag dinosaurs into the boxes to complete equation. Students then write the number sen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9ABF-469B-4E27-94A0-E8E54996F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will use the line drawing tool to draw a line and connect the dinosaur to the money it is wo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9649-D31A-4D16-A33D-C13D00822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copy &amp; paste dinosaurs in the long box to figure out how many dinosaurs tall the tree is and then they will replace the question marks with thei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60D6-662A-44AE-8093-D5C0A4D77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will click on the mountain to find the picture they created in Drawing for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FD1D-3E85-4A92-95FE-4DF07D160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B95-1A3A-47F4-B003-1D8F51BA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993-1C74-4729-BD2D-0B4C1E9F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420-71C1-432C-91ED-A651D5C4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4CC-6FD0-437A-9163-BC60FBE3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F306-1465-407D-BC4D-448AEEFD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C2C-043E-47D3-957F-86CAFAFD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6C3-6EA6-420C-B2C0-C4715989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5C7-7356-4C99-9544-BB6C3C97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50B-D0FE-4F60-9FDC-013D7840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4AA-BD85-415A-B981-6FD4D8E3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155-F4EA-43ED-B160-2DA1BAA7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F6E-5E04-4DDC-833A-45530B1D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EA7E-05EB-451A-B4CD-0C89C8182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Sedgwick\AppData\Local\Microsoft\Windows\Temporary Internet Files\Content.IE5\I6NJIKOR\MC900383094[1].wmf"/>
          <p:cNvPicPr/>
          <p:nvPr/>
        </p:nvPicPr>
        <p:blipFill>
          <a:blip r:embed="rId1"/>
          <a:stretch/>
        </p:blipFill>
        <p:spPr>
          <a:xfrm>
            <a:off x="2209680" y="1671480"/>
            <a:ext cx="6934320" cy="5186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nosa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Add Dinosaurs to Make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3"/>
          <p:cNvSpPr/>
          <p:nvPr/>
        </p:nvSpPr>
        <p:spPr>
          <a:xfrm>
            <a:off x="457200" y="1676520"/>
            <a:ext cx="2743200" cy="27432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3"/>
          <p:cNvSpPr/>
          <p:nvPr/>
        </p:nvSpPr>
        <p:spPr>
          <a:xfrm>
            <a:off x="4114800" y="1676520"/>
            <a:ext cx="2743200" cy="27432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276720" y="2590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7086600" y="25909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=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0"/>
          <p:cNvSpPr/>
          <p:nvPr/>
        </p:nvSpPr>
        <p:spPr>
          <a:xfrm>
            <a:off x="380880" y="4944960"/>
            <a:ext cx="8382240" cy="77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1"/>
          <p:cNvSpPr/>
          <p:nvPr/>
        </p:nvSpPr>
        <p:spPr>
          <a:xfrm>
            <a:off x="304920" y="45720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rite Number Sentence In Box Be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C:\Users\Sedgwick\AppData\Local\Microsoft\Windows\Temporary Internet Files\Content.IE5\I6NJIKOR\MC900113552[1].wmf"/>
          <p:cNvPicPr/>
          <p:nvPr/>
        </p:nvPicPr>
        <p:blipFill>
          <a:blip r:embed="rId1"/>
          <a:stretch/>
        </p:blipFill>
        <p:spPr>
          <a:xfrm>
            <a:off x="3412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Users\Sedgwick\AppData\Local\Microsoft\Windows\Temporary Internet Files\Content.IE5\I6NJIKOR\MC900113552[1].wmf"/>
          <p:cNvPicPr/>
          <p:nvPr/>
        </p:nvPicPr>
        <p:blipFill>
          <a:blip r:embed="rId2"/>
          <a:stretch/>
        </p:blipFill>
        <p:spPr>
          <a:xfrm>
            <a:off x="46483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Users\Sedgwick\AppData\Local\Microsoft\Windows\Temporary Internet Files\Content.IE5\I6NJIKOR\MC900113552[1].wmf"/>
          <p:cNvPicPr/>
          <p:nvPr/>
        </p:nvPicPr>
        <p:blipFill>
          <a:blip r:embed="rId3"/>
          <a:stretch/>
        </p:blipFill>
        <p:spPr>
          <a:xfrm>
            <a:off x="51055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Sedgwick\AppData\Local\Microsoft\Windows\Temporary Internet Files\Content.IE5\I6NJIKOR\MC900113552[1].wmf"/>
          <p:cNvPicPr/>
          <p:nvPr/>
        </p:nvPicPr>
        <p:blipFill>
          <a:blip r:embed="rId4"/>
          <a:stretch/>
        </p:blipFill>
        <p:spPr>
          <a:xfrm>
            <a:off x="55627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Sedgwick\AppData\Local\Microsoft\Windows\Temporary Internet Files\Content.IE5\I6NJIKOR\MC900113552[1].wmf"/>
          <p:cNvPicPr/>
          <p:nvPr/>
        </p:nvPicPr>
        <p:blipFill>
          <a:blip r:embed="rId5"/>
          <a:stretch/>
        </p:blipFill>
        <p:spPr>
          <a:xfrm>
            <a:off x="60199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Sedgwick\AppData\Local\Microsoft\Windows\Temporary Internet Files\Content.IE5\I6NJIKOR\MC900113552[1].wmf"/>
          <p:cNvPicPr/>
          <p:nvPr/>
        </p:nvPicPr>
        <p:blipFill>
          <a:blip r:embed="rId6"/>
          <a:stretch/>
        </p:blipFill>
        <p:spPr>
          <a:xfrm>
            <a:off x="64771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Sedgwick\AppData\Local\Microsoft\Windows\Temporary Internet Files\Content.IE5\I6NJIKOR\MC900113552[1].wmf"/>
          <p:cNvPicPr/>
          <p:nvPr/>
        </p:nvPicPr>
        <p:blipFill>
          <a:blip r:embed="rId7"/>
          <a:stretch/>
        </p:blipFill>
        <p:spPr>
          <a:xfrm>
            <a:off x="69706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Sedgwick\AppData\Local\Microsoft\Windows\Temporary Internet Files\Content.IE5\I6NJIKOR\MC900113552[1].wmf"/>
          <p:cNvPicPr/>
          <p:nvPr/>
        </p:nvPicPr>
        <p:blipFill>
          <a:blip r:embed="rId8"/>
          <a:stretch/>
        </p:blipFill>
        <p:spPr>
          <a:xfrm>
            <a:off x="750420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Sedgwick\AppData\Local\Microsoft\Windows\Temporary Internet Files\Content.IE5\I6NJIKOR\MC900113552[1].wmf"/>
          <p:cNvPicPr/>
          <p:nvPr/>
        </p:nvPicPr>
        <p:blipFill>
          <a:blip r:embed="rId9"/>
          <a:stretch/>
        </p:blipFill>
        <p:spPr>
          <a:xfrm>
            <a:off x="800100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Sedgwick\AppData\Local\Microsoft\Windows\Temporary Internet Files\Content.IE5\I6NJIKOR\MC900113552[1].wmf"/>
          <p:cNvPicPr/>
          <p:nvPr/>
        </p:nvPicPr>
        <p:blipFill>
          <a:blip r:embed="rId10"/>
          <a:stretch/>
        </p:blipFill>
        <p:spPr>
          <a:xfrm>
            <a:off x="845820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Sedgwick\AppData\Local\Microsoft\Windows\Temporary Internet Files\Content.IE5\I6NJIKOR\MC900113552[1].wmf"/>
          <p:cNvPicPr/>
          <p:nvPr/>
        </p:nvPicPr>
        <p:blipFill>
          <a:blip r:embed="rId11"/>
          <a:stretch/>
        </p:blipFill>
        <p:spPr>
          <a:xfrm>
            <a:off x="7984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Sedgwick\AppData\Local\Microsoft\Windows\Temporary Internet Files\Content.IE5\I6NJIKOR\MC900113552[1].wmf"/>
          <p:cNvPicPr/>
          <p:nvPr/>
        </p:nvPicPr>
        <p:blipFill>
          <a:blip r:embed="rId12"/>
          <a:stretch/>
        </p:blipFill>
        <p:spPr>
          <a:xfrm>
            <a:off x="12556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C:\Users\Sedgwick\AppData\Local\Microsoft\Windows\Temporary Internet Files\Content.IE5\I6NJIKOR\MC900113552[1].wmf"/>
          <p:cNvPicPr/>
          <p:nvPr/>
        </p:nvPicPr>
        <p:blipFill>
          <a:blip r:embed="rId13"/>
          <a:stretch/>
        </p:blipFill>
        <p:spPr>
          <a:xfrm>
            <a:off x="17128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Users\Sedgwick\AppData\Local\Microsoft\Windows\Temporary Internet Files\Content.IE5\I6NJIKOR\MC900113552[1].wmf"/>
          <p:cNvPicPr/>
          <p:nvPr/>
        </p:nvPicPr>
        <p:blipFill>
          <a:blip r:embed="rId14"/>
          <a:stretch/>
        </p:blipFill>
        <p:spPr>
          <a:xfrm>
            <a:off x="21700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Sedgwick\AppData\Local\Microsoft\Windows\Temporary Internet Files\Content.IE5\I6NJIKOR\MC900113552[1].wmf"/>
          <p:cNvPicPr/>
          <p:nvPr/>
        </p:nvPicPr>
        <p:blipFill>
          <a:blip r:embed="rId15"/>
          <a:stretch/>
        </p:blipFill>
        <p:spPr>
          <a:xfrm>
            <a:off x="26272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Users\Sedgwick\AppData\Local\Microsoft\Windows\Temporary Internet Files\Content.IE5\I6NJIKOR\MC900113552[1].wmf"/>
          <p:cNvPicPr/>
          <p:nvPr/>
        </p:nvPicPr>
        <p:blipFill>
          <a:blip r:embed="rId16"/>
          <a:stretch/>
        </p:blipFill>
        <p:spPr>
          <a:xfrm>
            <a:off x="312120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Sedgwick\AppData\Local\Microsoft\Windows\Temporary Internet Files\Content.IE5\I6NJIKOR\MC900113552[1].wmf"/>
          <p:cNvPicPr/>
          <p:nvPr/>
        </p:nvPicPr>
        <p:blipFill>
          <a:blip r:embed="rId17"/>
          <a:stretch/>
        </p:blipFill>
        <p:spPr>
          <a:xfrm>
            <a:off x="365436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Users\Sedgwick\AppData\Local\Microsoft\Windows\Temporary Internet Files\Content.IE5\I6NJIKOR\MC900113552[1].wmf"/>
          <p:cNvPicPr/>
          <p:nvPr/>
        </p:nvPicPr>
        <p:blipFill>
          <a:blip r:embed="rId18"/>
          <a:stretch/>
        </p:blipFill>
        <p:spPr>
          <a:xfrm>
            <a:off x="4151160" y="6019920"/>
            <a:ext cx="4208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ubtract Dinosaurs to Make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63"/>
          <p:cNvSpPr/>
          <p:nvPr/>
        </p:nvSpPr>
        <p:spPr>
          <a:xfrm>
            <a:off x="457200" y="1676520"/>
            <a:ext cx="2743200" cy="27432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3"/>
          <p:cNvSpPr/>
          <p:nvPr/>
        </p:nvSpPr>
        <p:spPr>
          <a:xfrm>
            <a:off x="4114800" y="1676520"/>
            <a:ext cx="2743200" cy="27432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3276720" y="2590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7086600" y="25909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=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0"/>
          <p:cNvSpPr/>
          <p:nvPr/>
        </p:nvSpPr>
        <p:spPr>
          <a:xfrm>
            <a:off x="380880" y="4944960"/>
            <a:ext cx="8382240" cy="77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1"/>
          <p:cNvSpPr/>
          <p:nvPr/>
        </p:nvSpPr>
        <p:spPr>
          <a:xfrm>
            <a:off x="304920" y="45720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rite Number Sentence In Box Be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:\Users\Sedgwick\AppData\Local\Microsoft\Windows\Temporary Internet Files\Content.IE5\I6NJIKOR\MC900113552[1].wmf"/>
          <p:cNvPicPr/>
          <p:nvPr/>
        </p:nvPicPr>
        <p:blipFill>
          <a:blip r:embed="rId1"/>
          <a:stretch/>
        </p:blipFill>
        <p:spPr>
          <a:xfrm>
            <a:off x="3412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Users\Sedgwick\AppData\Local\Microsoft\Windows\Temporary Internet Files\Content.IE5\I6NJIKOR\MC900113552[1].wmf"/>
          <p:cNvPicPr/>
          <p:nvPr/>
        </p:nvPicPr>
        <p:blipFill>
          <a:blip r:embed="rId2"/>
          <a:stretch/>
        </p:blipFill>
        <p:spPr>
          <a:xfrm>
            <a:off x="46483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Users\Sedgwick\AppData\Local\Microsoft\Windows\Temporary Internet Files\Content.IE5\I6NJIKOR\MC900113552[1].wmf"/>
          <p:cNvPicPr/>
          <p:nvPr/>
        </p:nvPicPr>
        <p:blipFill>
          <a:blip r:embed="rId3"/>
          <a:stretch/>
        </p:blipFill>
        <p:spPr>
          <a:xfrm>
            <a:off x="51055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Users\Sedgwick\AppData\Local\Microsoft\Windows\Temporary Internet Files\Content.IE5\I6NJIKOR\MC900113552[1].wmf"/>
          <p:cNvPicPr/>
          <p:nvPr/>
        </p:nvPicPr>
        <p:blipFill>
          <a:blip r:embed="rId4"/>
          <a:stretch/>
        </p:blipFill>
        <p:spPr>
          <a:xfrm>
            <a:off x="55627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C:\Users\Sedgwick\AppData\Local\Microsoft\Windows\Temporary Internet Files\Content.IE5\I6NJIKOR\MC900113552[1].wmf"/>
          <p:cNvPicPr/>
          <p:nvPr/>
        </p:nvPicPr>
        <p:blipFill>
          <a:blip r:embed="rId5"/>
          <a:stretch/>
        </p:blipFill>
        <p:spPr>
          <a:xfrm>
            <a:off x="60199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I6NJIKOR\MC900113552[1].wmf"/>
          <p:cNvPicPr/>
          <p:nvPr/>
        </p:nvPicPr>
        <p:blipFill>
          <a:blip r:embed="rId6"/>
          <a:stretch/>
        </p:blipFill>
        <p:spPr>
          <a:xfrm>
            <a:off x="64771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Users\Sedgwick\AppData\Local\Microsoft\Windows\Temporary Internet Files\Content.IE5\I6NJIKOR\MC900113552[1].wmf"/>
          <p:cNvPicPr/>
          <p:nvPr/>
        </p:nvPicPr>
        <p:blipFill>
          <a:blip r:embed="rId7"/>
          <a:stretch/>
        </p:blipFill>
        <p:spPr>
          <a:xfrm>
            <a:off x="69706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Users\Sedgwick\AppData\Local\Microsoft\Windows\Temporary Internet Files\Content.IE5\I6NJIKOR\MC900113552[1].wmf"/>
          <p:cNvPicPr/>
          <p:nvPr/>
        </p:nvPicPr>
        <p:blipFill>
          <a:blip r:embed="rId8"/>
          <a:stretch/>
        </p:blipFill>
        <p:spPr>
          <a:xfrm>
            <a:off x="750420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Sedgwick\AppData\Local\Microsoft\Windows\Temporary Internet Files\Content.IE5\I6NJIKOR\MC900113552[1].wmf"/>
          <p:cNvPicPr/>
          <p:nvPr/>
        </p:nvPicPr>
        <p:blipFill>
          <a:blip r:embed="rId9"/>
          <a:stretch/>
        </p:blipFill>
        <p:spPr>
          <a:xfrm>
            <a:off x="800100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Users\Sedgwick\AppData\Local\Microsoft\Windows\Temporary Internet Files\Content.IE5\I6NJIKOR\MC900113552[1].wmf"/>
          <p:cNvPicPr/>
          <p:nvPr/>
        </p:nvPicPr>
        <p:blipFill>
          <a:blip r:embed="rId10"/>
          <a:stretch/>
        </p:blipFill>
        <p:spPr>
          <a:xfrm>
            <a:off x="845820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Users\Sedgwick\AppData\Local\Microsoft\Windows\Temporary Internet Files\Content.IE5\I6NJIKOR\MC900113552[1].wmf"/>
          <p:cNvPicPr/>
          <p:nvPr/>
        </p:nvPicPr>
        <p:blipFill>
          <a:blip r:embed="rId11"/>
          <a:stretch/>
        </p:blipFill>
        <p:spPr>
          <a:xfrm>
            <a:off x="7984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Users\Sedgwick\AppData\Local\Microsoft\Windows\Temporary Internet Files\Content.IE5\I6NJIKOR\MC900113552[1].wmf"/>
          <p:cNvPicPr/>
          <p:nvPr/>
        </p:nvPicPr>
        <p:blipFill>
          <a:blip r:embed="rId12"/>
          <a:stretch/>
        </p:blipFill>
        <p:spPr>
          <a:xfrm>
            <a:off x="12556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Users\Sedgwick\AppData\Local\Microsoft\Windows\Temporary Internet Files\Content.IE5\I6NJIKOR\MC900113552[1].wmf"/>
          <p:cNvPicPr/>
          <p:nvPr/>
        </p:nvPicPr>
        <p:blipFill>
          <a:blip r:embed="rId13"/>
          <a:stretch/>
        </p:blipFill>
        <p:spPr>
          <a:xfrm>
            <a:off x="17128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Users\Sedgwick\AppData\Local\Microsoft\Windows\Temporary Internet Files\Content.IE5\I6NJIKOR\MC900113552[1].wmf"/>
          <p:cNvPicPr/>
          <p:nvPr/>
        </p:nvPicPr>
        <p:blipFill>
          <a:blip r:embed="rId14"/>
          <a:stretch/>
        </p:blipFill>
        <p:spPr>
          <a:xfrm>
            <a:off x="21700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Users\Sedgwick\AppData\Local\Microsoft\Windows\Temporary Internet Files\Content.IE5\I6NJIKOR\MC900113552[1].wmf"/>
          <p:cNvPicPr/>
          <p:nvPr/>
        </p:nvPicPr>
        <p:blipFill>
          <a:blip r:embed="rId15"/>
          <a:stretch/>
        </p:blipFill>
        <p:spPr>
          <a:xfrm>
            <a:off x="26272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Users\Sedgwick\AppData\Local\Microsoft\Windows\Temporary Internet Files\Content.IE5\I6NJIKOR\MC900113552[1].wmf"/>
          <p:cNvPicPr/>
          <p:nvPr/>
        </p:nvPicPr>
        <p:blipFill>
          <a:blip r:embed="rId16"/>
          <a:stretch/>
        </p:blipFill>
        <p:spPr>
          <a:xfrm>
            <a:off x="312120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Users\Sedgwick\AppData\Local\Microsoft\Windows\Temporary Internet Files\Content.IE5\I6NJIKOR\MC900113552[1].wmf"/>
          <p:cNvPicPr/>
          <p:nvPr/>
        </p:nvPicPr>
        <p:blipFill>
          <a:blip r:embed="rId17"/>
          <a:stretch/>
        </p:blipFill>
        <p:spPr>
          <a:xfrm>
            <a:off x="365436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I6NJIKOR\MC900113552[1].wmf"/>
          <p:cNvPicPr/>
          <p:nvPr/>
        </p:nvPicPr>
        <p:blipFill>
          <a:blip r:embed="rId18"/>
          <a:stretch/>
        </p:blipFill>
        <p:spPr>
          <a:xfrm>
            <a:off x="4151160" y="6019920"/>
            <a:ext cx="4208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nosaur Money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4"/>
          <p:cNvGrpSpPr/>
          <p:nvPr/>
        </p:nvGrpSpPr>
        <p:grpSpPr>
          <a:xfrm>
            <a:off x="557280" y="1066680"/>
            <a:ext cx="1008000" cy="914400"/>
            <a:chOff x="557280" y="1066680"/>
            <a:chExt cx="1008000" cy="914400"/>
          </a:xfrm>
        </p:grpSpPr>
        <p:pic>
          <p:nvPicPr>
            <p:cNvPr id="103" name="Picture 2" descr="C:\Users\Sedgwick\AppData\Local\Microsoft\Windows\Temporary Internet Files\Content.IE5\KFXP841X\MCAN00483_0000[1].wmf"/>
            <p:cNvPicPr/>
            <p:nvPr/>
          </p:nvPicPr>
          <p:blipFill>
            <a:blip r:embed="rId1"/>
            <a:stretch/>
          </p:blipFill>
          <p:spPr>
            <a:xfrm flipH="1">
              <a:off x="557280" y="1066680"/>
              <a:ext cx="1008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3"/>
            <p:cNvSpPr/>
            <p:nvPr/>
          </p:nvSpPr>
          <p:spPr>
            <a:xfrm>
              <a:off x="762480" y="1295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5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6"/>
          <p:cNvGrpSpPr/>
          <p:nvPr/>
        </p:nvGrpSpPr>
        <p:grpSpPr>
          <a:xfrm>
            <a:off x="331920" y="2286000"/>
            <a:ext cx="1458720" cy="914400"/>
            <a:chOff x="331920" y="2286000"/>
            <a:chExt cx="1458720" cy="914400"/>
          </a:xfrm>
        </p:grpSpPr>
        <p:pic>
          <p:nvPicPr>
            <p:cNvPr id="106" name="Picture 5" descr="C:\Users\Sedgwick\AppData\Local\Microsoft\Windows\Temporary Internet Files\Content.IE5\KFXP841X\MCj04246000000[1].wmf"/>
            <p:cNvPicPr/>
            <p:nvPr/>
          </p:nvPicPr>
          <p:blipFill>
            <a:blip r:embed="rId2"/>
            <a:stretch/>
          </p:blipFill>
          <p:spPr>
            <a:xfrm>
              <a:off x="331920" y="2286000"/>
              <a:ext cx="14587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15"/>
            <p:cNvSpPr/>
            <p:nvPr/>
          </p:nvSpPr>
          <p:spPr>
            <a:xfrm>
              <a:off x="762480" y="2590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9"/>
          <p:cNvGrpSpPr/>
          <p:nvPr/>
        </p:nvGrpSpPr>
        <p:grpSpPr>
          <a:xfrm>
            <a:off x="457200" y="3429000"/>
            <a:ext cx="1208160" cy="914400"/>
            <a:chOff x="457200" y="3429000"/>
            <a:chExt cx="1208160" cy="914400"/>
          </a:xfrm>
        </p:grpSpPr>
        <p:pic>
          <p:nvPicPr>
            <p:cNvPr id="109" name="Picture 4" descr="C:\Users\Sedgwick\AppData\Local\Microsoft\Windows\Temporary Internet Files\Content.IE5\BZB8V9SZ\MCAN00753_0000[1].wmf"/>
            <p:cNvPicPr/>
            <p:nvPr/>
          </p:nvPicPr>
          <p:blipFill>
            <a:blip r:embed="rId3"/>
            <a:stretch/>
          </p:blipFill>
          <p:spPr>
            <a:xfrm flipH="1">
              <a:off x="457200" y="3429000"/>
              <a:ext cx="12081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Box 17"/>
            <p:cNvSpPr/>
            <p:nvPr/>
          </p:nvSpPr>
          <p:spPr>
            <a:xfrm>
              <a:off x="686160" y="36385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1"/>
          <p:cNvGrpSpPr/>
          <p:nvPr/>
        </p:nvGrpSpPr>
        <p:grpSpPr>
          <a:xfrm>
            <a:off x="227160" y="4495680"/>
            <a:ext cx="1668240" cy="914400"/>
            <a:chOff x="227160" y="4495680"/>
            <a:chExt cx="1668240" cy="914400"/>
          </a:xfrm>
        </p:grpSpPr>
        <p:pic>
          <p:nvPicPr>
            <p:cNvPr id="112" name="Picture 3" descr="C:\Users\Sedgwick\AppData\Local\Microsoft\Windows\Temporary Internet Files\Content.IE5\IYTUHS8Y\MCAN00351_0000[1].wmf"/>
            <p:cNvPicPr/>
            <p:nvPr/>
          </p:nvPicPr>
          <p:blipFill>
            <a:blip r:embed="rId4"/>
            <a:stretch/>
          </p:blipFill>
          <p:spPr>
            <a:xfrm>
              <a:off x="227160" y="4495680"/>
              <a:ext cx="1668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20"/>
            <p:cNvSpPr/>
            <p:nvPr/>
          </p:nvSpPr>
          <p:spPr>
            <a:xfrm>
              <a:off x="914760" y="46479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3"/>
          <p:cNvGrpSpPr/>
          <p:nvPr/>
        </p:nvGrpSpPr>
        <p:grpSpPr>
          <a:xfrm>
            <a:off x="151920" y="5673600"/>
            <a:ext cx="1816200" cy="879480"/>
            <a:chOff x="151920" y="5673600"/>
            <a:chExt cx="1816200" cy="879480"/>
          </a:xfrm>
        </p:grpSpPr>
        <p:pic>
          <p:nvPicPr>
            <p:cNvPr id="115" name="Picture 13" descr="C:\Users\Sedgwick\AppData\Local\Microsoft\Windows\Temporary Internet Files\Content.IE5\KPIB5TT2\MC900329579[1].wmf"/>
            <p:cNvPicPr/>
            <p:nvPr/>
          </p:nvPicPr>
          <p:blipFill>
            <a:blip r:embed="rId5"/>
            <a:stretch/>
          </p:blipFill>
          <p:spPr>
            <a:xfrm flipH="1">
              <a:off x="151920" y="5673600"/>
              <a:ext cx="181620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22"/>
            <p:cNvSpPr/>
            <p:nvPr/>
          </p:nvSpPr>
          <p:spPr>
            <a:xfrm>
              <a:off x="685440" y="59436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2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5"/>
          <p:cNvGrpSpPr/>
          <p:nvPr/>
        </p:nvGrpSpPr>
        <p:grpSpPr>
          <a:xfrm>
            <a:off x="7458120" y="2133720"/>
            <a:ext cx="1009440" cy="961920"/>
            <a:chOff x="7458120" y="2133720"/>
            <a:chExt cx="1009440" cy="961920"/>
          </a:xfrm>
        </p:grpSpPr>
        <p:pic>
          <p:nvPicPr>
            <p:cNvPr id="118" name="Picture 39" descr="dime.gif"/>
            <p:cNvPicPr/>
            <p:nvPr/>
          </p:nvPicPr>
          <p:blipFill>
            <a:blip r:embed="rId6"/>
            <a:stretch/>
          </p:blipFill>
          <p:spPr>
            <a:xfrm>
              <a:off x="7495920" y="213372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38" descr="dime.gif"/>
            <p:cNvPicPr/>
            <p:nvPr/>
          </p:nvPicPr>
          <p:blipFill>
            <a:blip r:embed="rId7"/>
            <a:stretch/>
          </p:blipFill>
          <p:spPr>
            <a:xfrm>
              <a:off x="7886520" y="213372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32" descr="penny.gif"/>
            <p:cNvPicPr/>
            <p:nvPr/>
          </p:nvPicPr>
          <p:blipFill>
            <a:blip r:embed="rId8"/>
            <a:stretch/>
          </p:blipFill>
          <p:spPr>
            <a:xfrm>
              <a:off x="7886520" y="2514600"/>
              <a:ext cx="58104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3" descr="penny.gif"/>
            <p:cNvPicPr/>
            <p:nvPr/>
          </p:nvPicPr>
          <p:blipFill>
            <a:blip r:embed="rId9"/>
            <a:stretch/>
          </p:blipFill>
          <p:spPr>
            <a:xfrm>
              <a:off x="7458120" y="2514600"/>
              <a:ext cx="581040" cy="58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35" descr="nickel.gif"/>
          <p:cNvPicPr/>
          <p:nvPr/>
        </p:nvPicPr>
        <p:blipFill>
          <a:blip r:embed="rId10"/>
          <a:stretch/>
        </p:blipFill>
        <p:spPr>
          <a:xfrm>
            <a:off x="7643880" y="1219320"/>
            <a:ext cx="638280" cy="63792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44"/>
          <p:cNvGrpSpPr/>
          <p:nvPr/>
        </p:nvGrpSpPr>
        <p:grpSpPr>
          <a:xfrm>
            <a:off x="7486560" y="4419720"/>
            <a:ext cx="952560" cy="790560"/>
            <a:chOff x="7486560" y="4419720"/>
            <a:chExt cx="952560" cy="790560"/>
          </a:xfrm>
        </p:grpSpPr>
        <p:pic>
          <p:nvPicPr>
            <p:cNvPr id="124" name="Picture 36" descr="dime.gif"/>
            <p:cNvPicPr/>
            <p:nvPr/>
          </p:nvPicPr>
          <p:blipFill>
            <a:blip r:embed="rId11"/>
            <a:stretch/>
          </p:blipFill>
          <p:spPr>
            <a:xfrm>
              <a:off x="7486560" y="441972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34" descr="nickel.gif"/>
            <p:cNvPicPr/>
            <p:nvPr/>
          </p:nvPicPr>
          <p:blipFill>
            <a:blip r:embed="rId12"/>
            <a:stretch/>
          </p:blipFill>
          <p:spPr>
            <a:xfrm>
              <a:off x="7800840" y="4572000"/>
              <a:ext cx="638280" cy="6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43"/>
          <p:cNvGrpSpPr/>
          <p:nvPr/>
        </p:nvGrpSpPr>
        <p:grpSpPr>
          <a:xfrm>
            <a:off x="7291440" y="5486400"/>
            <a:ext cx="1342800" cy="1019160"/>
            <a:chOff x="7291440" y="5486400"/>
            <a:chExt cx="1342800" cy="1019160"/>
          </a:xfrm>
        </p:grpSpPr>
        <p:pic>
          <p:nvPicPr>
            <p:cNvPr id="127" name="Picture 29" descr="penny.gif"/>
            <p:cNvPicPr/>
            <p:nvPr/>
          </p:nvPicPr>
          <p:blipFill>
            <a:blip r:embed="rId13"/>
            <a:stretch/>
          </p:blipFill>
          <p:spPr>
            <a:xfrm>
              <a:off x="8053200" y="5867280"/>
              <a:ext cx="58104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30" descr="penny.gif"/>
            <p:cNvPicPr/>
            <p:nvPr/>
          </p:nvPicPr>
          <p:blipFill>
            <a:blip r:embed="rId14"/>
            <a:stretch/>
          </p:blipFill>
          <p:spPr>
            <a:xfrm>
              <a:off x="7748640" y="5486400"/>
              <a:ext cx="58104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31" descr="penny.gif"/>
            <p:cNvPicPr/>
            <p:nvPr/>
          </p:nvPicPr>
          <p:blipFill>
            <a:blip r:embed="rId15"/>
            <a:stretch/>
          </p:blipFill>
          <p:spPr>
            <a:xfrm>
              <a:off x="7291440" y="5638680"/>
              <a:ext cx="58104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0" descr="nickel.gif"/>
            <p:cNvPicPr/>
            <p:nvPr/>
          </p:nvPicPr>
          <p:blipFill>
            <a:blip r:embed="rId16"/>
            <a:stretch/>
          </p:blipFill>
          <p:spPr>
            <a:xfrm>
              <a:off x="7596000" y="5867280"/>
              <a:ext cx="637920" cy="63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41" descr="quarter.gif"/>
          <p:cNvPicPr/>
          <p:nvPr/>
        </p:nvPicPr>
        <p:blipFill>
          <a:blip r:embed="rId17"/>
          <a:stretch/>
        </p:blipFill>
        <p:spPr>
          <a:xfrm>
            <a:off x="7605720" y="33526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alm tree is ?? dinosaurs ta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66" descr="C:\Users\Sedgwick\AppData\Local\Microsoft\Windows\Temporary Internet Files\Content.IE5\FEA2JC58\MC900351406[1].wmf"/>
          <p:cNvPicPr/>
          <p:nvPr/>
        </p:nvPicPr>
        <p:blipFill>
          <a:blip r:embed="rId1"/>
          <a:stretch/>
        </p:blipFill>
        <p:spPr>
          <a:xfrm flipH="1">
            <a:off x="2515680" y="1143000"/>
            <a:ext cx="350388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4"/>
          <p:cNvSpPr/>
          <p:nvPr/>
        </p:nvSpPr>
        <p:spPr>
          <a:xfrm>
            <a:off x="152280" y="1143000"/>
            <a:ext cx="2286000" cy="45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:\Users\Sedgwick\AppData\Local\Microsoft\Windows\Temporary Internet Files\Content.IE5\I6NJIKOR\MC900113554[1].wmf"/>
          <p:cNvPicPr/>
          <p:nvPr/>
        </p:nvPicPr>
        <p:blipFill>
          <a:blip r:embed="rId2"/>
          <a:stretch/>
        </p:blipFill>
        <p:spPr>
          <a:xfrm>
            <a:off x="0" y="5867280"/>
            <a:ext cx="228456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I6NJIKOR\MC900113554[1].wmf"/>
          <p:cNvPicPr/>
          <p:nvPr/>
        </p:nvPicPr>
        <p:blipFill>
          <a:blip r:embed="rId3"/>
          <a:stretch/>
        </p:blipFill>
        <p:spPr>
          <a:xfrm>
            <a:off x="1676520" y="5867280"/>
            <a:ext cx="228420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Sedgwick\AppData\Local\Microsoft\Windows\Temporary Internet Files\Content.IE5\I6NJIKOR\MC900113554[1].wmf"/>
          <p:cNvPicPr/>
          <p:nvPr/>
        </p:nvPicPr>
        <p:blipFill>
          <a:blip r:embed="rId4"/>
          <a:stretch/>
        </p:blipFill>
        <p:spPr>
          <a:xfrm>
            <a:off x="4572000" y="4800600"/>
            <a:ext cx="228456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Sedgwick\AppData\Local\Microsoft\Windows\Temporary Internet Files\Content.IE5\I6NJIKOR\MC900113554[1].wmf"/>
          <p:cNvPicPr/>
          <p:nvPr/>
        </p:nvPicPr>
        <p:blipFill>
          <a:blip r:embed="rId5"/>
          <a:stretch/>
        </p:blipFill>
        <p:spPr>
          <a:xfrm>
            <a:off x="6324480" y="4800600"/>
            <a:ext cx="2284560" cy="914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Users\Sedgwick\AppData\Local\Microsoft\Windows\Temporary Internet Files\Content.IE5\I6NJIKOR\MC900113554[1].wmf"/>
          <p:cNvPicPr/>
          <p:nvPr/>
        </p:nvPicPr>
        <p:blipFill>
          <a:blip r:embed="rId6"/>
          <a:stretch/>
        </p:blipFill>
        <p:spPr>
          <a:xfrm>
            <a:off x="3430440" y="5867280"/>
            <a:ext cx="2284560" cy="914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Users\Sedgwick\AppData\Local\Microsoft\Windows\Temporary Internet Files\Content.IE5\I6NJIKOR\MC900113554[1].wmf"/>
          <p:cNvPicPr/>
          <p:nvPr/>
        </p:nvPicPr>
        <p:blipFill>
          <a:blip r:embed="rId7"/>
          <a:stretch/>
        </p:blipFill>
        <p:spPr>
          <a:xfrm>
            <a:off x="5106960" y="5867280"/>
            <a:ext cx="228456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I6NJIKOR\MC900113554[1].wmf"/>
          <p:cNvPicPr/>
          <p:nvPr/>
        </p:nvPicPr>
        <p:blipFill>
          <a:blip r:embed="rId8"/>
          <a:stretch/>
        </p:blipFill>
        <p:spPr>
          <a:xfrm>
            <a:off x="6783480" y="5867280"/>
            <a:ext cx="2284200" cy="914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Sedgwick\AppData\Local\Microsoft\Windows\Temporary Internet Files\Content.IE5\I6NJIKOR\MC900113554[1].wmf"/>
          <p:cNvPicPr/>
          <p:nvPr/>
        </p:nvPicPr>
        <p:blipFill>
          <a:blip r:embed="rId9"/>
          <a:stretch/>
        </p:blipFill>
        <p:spPr>
          <a:xfrm>
            <a:off x="5791320" y="3809880"/>
            <a:ext cx="2284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Dinosaur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7:30:24Z</dcterms:created>
  <dc:creator>Sedgwick</dc:creator>
  <dc:description/>
  <dc:language>en-US</dc:language>
  <cp:lastModifiedBy>Sedgwick</cp:lastModifiedBy>
  <dcterms:modified xsi:type="dcterms:W3CDTF">2011-03-31T17:39:34Z</dcterms:modified>
  <cp:revision>18</cp:revision>
  <dc:subject/>
  <dc:title>Dinosaurs</dc:title>
</cp:coreProperties>
</file>